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B0A-F836-4433-A386-C115F155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D71-2014-445D-BDEF-BFE1312E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D50-4E66-48ED-A64A-DA2301CC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B63-2C16-4712-B54E-8B5E9506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21B0-02CA-4C54-8155-245398C6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4104-BDEF-432C-8E22-33A7F63A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D7DC-369B-4DAC-A4EA-40CA1B5B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E20-052D-4B1F-B16E-24F4BE18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7838-9721-43A4-87F5-873D28F1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FFC3-C3E2-4E54-BB98-4A8F67C5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50E2-CB98-4EA7-8BC1-FD3DC5E7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486-BC3C-4DF5-8B46-8AAFFBC1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ED8B-18B3-4D2F-8F36-DD6DDCE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441F-4784-4798-885B-F410454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0F67-7D50-4BD4-AC73-D689488E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78DD-159A-44B1-BAD0-DA3A70EF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8FB9-5946-4FF1-84B9-50C33C6D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2F1-A920-45B1-B33B-46F1D3A2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542-43D4-4C9E-A002-7FD2DBA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EB6-5DF3-4954-9202-372B0E60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728-FCF2-4378-AA96-58186348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E0E-545F-4500-AF1D-F354D386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97F-A172-469B-A067-FBE96C12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A86-8B42-42D0-85E9-E6B271FF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C11C-6A66-4065-A1CA-BB63A947F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E8B6-3CEC-4C5A-9E91-448B68370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nd C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Producer Alyssa Moncea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pose of this movie is to inform the viewer about sand cats. The movie will tell you the environment it lives in, what it eat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special because it is about an animal that most people don’t even k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0:59:48Z</dcterms:created>
  <dc:creator/>
  <dc:description/>
  <dc:language>en-US</dc:language>
  <cp:lastModifiedBy>City School</cp:lastModifiedBy>
  <dcterms:modified xsi:type="dcterms:W3CDTF">2013-02-21T21:20:34Z</dcterms:modified>
  <cp:revision>48</cp:revision>
  <dc:subject/>
  <dc:title>The Pitch-Then-Plan Business Planning Template</dc:title>
</cp:coreProperties>
</file>